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DD1C8-6FDE-4F30-B616-1A261B89E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F7E97-6A24-4F23-B4AB-0831712A5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D0241-9175-4E5D-B822-BA95D530B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58337-CC67-4C7A-8E49-8877BF88F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2CB4B-3BDA-495F-B954-D8A003C33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077F7-E383-4E03-9F38-146C79C75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A10B4-8862-4E0E-9161-9DF45F498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D69FD-BFBE-41DA-9C61-F4A612325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57580-375B-420C-99F1-7AF225F70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005B2-9533-4999-AF38-6921C2B1E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AB9EE-D5A0-4EE9-ABB7-51713A028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29833-EB13-40EF-A864-8AACFF410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D21CD-A621-47CE-A50F-3080D9C86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DF132-5161-4A23-A43A-B4C5D9C55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74635-CC4D-466A-89A6-75CDA6904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517ED-DADD-4E2A-B5C5-146586A469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D32C0-7E5F-46B9-9852-0D2F9D829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14DA8-249A-4387-8CB7-350EEA925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70CC8-405E-44F8-921C-9BC48035D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3264D-BFE9-4D23-ADD7-64EB3AC5D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1D0CD-E3CB-4E13-A14B-EB90ADA2B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25D64-4A22-4362-8840-08F396A9A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8AF1-4952-4FDE-B050-2497D8410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9F02-644D-49AC-8B74-F1989A40C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756F-D49F-41C2-9986-2D67465DE60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A62E-658A-451D-AB31-A17F43934E2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1767960"/>
            <a:ext cx="82296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Liturgy of the Word</a:t>
            </a:r>
            <a:endParaRPr b="0" lang="en-US" sz="5400" spc="-1" strike="noStrike">
              <a:solidFill>
                <a:srgbClr val="ffffcc"/>
              </a:solidFill>
              <a:latin typeface="Tahoma"/>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3)</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ts’ procession of incense goes from right to left as the disciples preached to the Jews who were from the right side people (being the people of God previously), but when they rejected the faith, the apostles were directed to the Gentiles who were the people of the left side.</a:t>
            </a:r>
            <a:endParaRPr b="0" lang="en-US" sz="2800" spc="-1" strike="noStrike">
              <a:solidFill>
                <a:srgbClr val="ffffff"/>
              </a:solidFill>
              <a:latin typeface="Tahoma"/>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4)</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est conclude the Acts’ procession of incense at the door of the sanctuary as the apostles when they went to preach they did not come back to Jerusalem again as they were martyred away from it.</a:t>
            </a:r>
            <a:endParaRPr b="0" lang="en-US" sz="2800" spc="-1" strike="noStrike">
              <a:solidFill>
                <a:srgbClr val="ffffff"/>
              </a:solidFill>
              <a:latin typeface="Tahoma"/>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4. </a:t>
            </a:r>
            <a:r>
              <a:rPr b="0" lang="en-US" sz="4000" spc="-1" strike="noStrike">
                <a:solidFill>
                  <a:srgbClr val="ffffcc"/>
                </a:solidFill>
                <a:latin typeface="Arial"/>
              </a:rPr>
              <a:t>The Synxarium</a:t>
            </a:r>
            <a:r>
              <a:rPr b="0" lang="en-US" sz="3200" spc="-1" strike="noStrike">
                <a:solidFill>
                  <a:srgbClr val="ffffcc"/>
                </a:solidFill>
                <a:latin typeface="Arial"/>
              </a:rPr>
              <a:t>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fontScale="95000"/>
          </a:bodyPr>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is the reading of the biography of the saints who were martyred or departed in the same day.</a:t>
            </a:r>
            <a:endParaRPr b="0" lang="en-US" sz="2600" spc="-1" strike="noStrike">
              <a:solidFill>
                <a:srgbClr val="ffffff"/>
              </a:solidFill>
              <a:latin typeface="Tahoma"/>
            </a:endParaRPr>
          </a:p>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is read after the Acts as it is a continuation of the history of the church that started by the Apostles.</a:t>
            </a:r>
            <a:endParaRPr b="0" lang="en-US" sz="2600" spc="-1" strike="noStrike">
              <a:solidFill>
                <a:srgbClr val="ffffff"/>
              </a:solidFill>
              <a:latin typeface="Tahoma"/>
            </a:endParaRPr>
          </a:p>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ually, the Synxarium is not read during the Holy Fifty days as the joy of the resurrection surpasses every thing else and takes the whole attention of the church.</a:t>
            </a:r>
            <a:endParaRPr b="0" lang="en-US" sz="2600" spc="-1" strike="noStrike">
              <a:solidFill>
                <a:srgbClr val="ffffff"/>
              </a:solidFill>
              <a:latin typeface="Tahoma"/>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133720" y="0"/>
            <a:ext cx="5143320" cy="685800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litany of the Gospel and the Gospel reading are similar to that during the raising of incense (Vespers &amp; Matins).</a:t>
            </a:r>
            <a:endParaRPr b="0" lang="en-US" sz="2600" spc="-1" strike="noStrike">
              <a:solidFill>
                <a:srgbClr val="ffffff"/>
              </a:solidFill>
              <a:latin typeface="Tahoma"/>
            </a:endParaRPr>
          </a:p>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three long litanies are the litanies of the peace of the Church, the Church Fathers, and the Assembly. (these litanies may be prayed loudly or inaudibly)</a:t>
            </a:r>
            <a:endParaRPr b="0" lang="en-US" sz="2600" spc="-1" strike="noStrike">
              <a:solidFill>
                <a:srgbClr val="ffffff"/>
              </a:solidFill>
              <a:latin typeface="Tahoma"/>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reading of the Gospel, the gospel is put on the “Mangalia” denoting the appearance of the Lord Christ as a Teacher. After the reading, the gospel is put behind the throne that include the chalice denoting the appearance of the Lord at that time as a Sacrifice.</a:t>
            </a:r>
            <a:endParaRPr b="0" lang="en-US" sz="2600" spc="-1" strike="noStrike">
              <a:solidFill>
                <a:srgbClr val="ffffff"/>
              </a:solidFill>
              <a:latin typeface="Tahoma"/>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533520"/>
            <a:ext cx="4629240" cy="6172200"/>
          </a:xfrm>
          <a:prstGeom prst="rect">
            <a:avLst/>
          </a:prstGeom>
          <a:ln w="0">
            <a:noFill/>
          </a:ln>
        </p:spPr>
      </p:pic>
      <p:pic>
        <p:nvPicPr>
          <p:cNvPr id="115" name="" descr=""/>
          <p:cNvPicPr/>
          <p:nvPr/>
        </p:nvPicPr>
        <p:blipFill>
          <a:blip r:embed="rId2"/>
          <a:stretch/>
        </p:blipFill>
        <p:spPr>
          <a:xfrm>
            <a:off x="4514760" y="533520"/>
            <a:ext cx="4629240" cy="6172200"/>
          </a:xfrm>
          <a:prstGeom prst="rect">
            <a:avLst/>
          </a:prstGeom>
          <a:ln w="0">
            <a:noFill/>
          </a:ln>
        </p:spPr>
      </p:pic>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3)</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Peace of the Church, the priest signs the congregation with the cross when saying “…let not the death of sin have dominion over us, nor over your people” as with the sign of the cross, the sin was abolished.</a:t>
            </a:r>
            <a:endParaRPr b="0" lang="en-US" sz="2600" spc="-1" strike="noStrike">
              <a:solidFill>
                <a:srgbClr val="ffffff"/>
              </a:solidFill>
              <a:latin typeface="Tahoma"/>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4)</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Church Fathers, the priest points to the congregation with the incense box while saying “…and our prayers on their behalf” as incense symbolizes the prayers as king David said: “</a:t>
            </a:r>
            <a:r>
              <a:rPr b="0" i="1" lang="en-US" sz="2600" spc="-1" strike="noStrike">
                <a:solidFill>
                  <a:srgbClr val="ffffff"/>
                </a:solidFill>
                <a:latin typeface="Arial"/>
              </a:rPr>
              <a:t>Let my prayer be set before You as incense,</a:t>
            </a:r>
            <a:br>
              <a:rPr sz="2600"/>
            </a:br>
            <a:r>
              <a:rPr b="0" i="1" lang="en-US" sz="2600" spc="-1" strike="noStrike">
                <a:solidFill>
                  <a:srgbClr val="ffffff"/>
                </a:solidFill>
                <a:latin typeface="Arial"/>
              </a:rPr>
              <a:t> The lifting up of my hands as the evening sacrifice</a:t>
            </a:r>
            <a:r>
              <a:rPr b="0" lang="en-US" sz="2600" spc="-1" strike="noStrike">
                <a:solidFill>
                  <a:srgbClr val="ffffff"/>
                </a:solidFill>
                <a:latin typeface="Arial"/>
              </a:rPr>
              <a:t>” Psalm 141:2</a:t>
            </a:r>
            <a:endParaRPr b="0" lang="en-US" sz="2600" spc="-1" strike="noStrike">
              <a:solidFill>
                <a:srgbClr val="ffffff"/>
              </a:solidFill>
              <a:latin typeface="Tahoma"/>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5)</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2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Assembly, and when saying “..houses of prayers, houses of purity, houses of blessings”, the priest raise the incense above the altar in the likeness of a cross as a sanctification  of the altar and asking that the church will be always a house of prayers, purity, and blessings.</a:t>
            </a:r>
            <a:endParaRPr b="0" lang="en-US" sz="2600" spc="-1" strike="noStrike">
              <a:solidFill>
                <a:srgbClr val="ffffff"/>
              </a:solidFill>
              <a:latin typeface="Tahoma"/>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arts of the Liturgy of the Catechumens’ Rite </a:t>
            </a:r>
            <a:endParaRPr b="0" lang="en-US" sz="36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uline’s procession of incense and the reading of the Pauline epistle.  </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ding of the Catholic epistle.</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s’ procession of incense and the reading of the Acts</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nxarium.</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tany of the Gospel followed by the Gospel’s reading, and the three long litanies.</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eed and the Reconciliation's prayer.</a:t>
            </a:r>
            <a:endParaRPr b="0" lang="en-US" sz="2400" spc="-1" strike="noStrike">
              <a:solidFill>
                <a:srgbClr val="ffffff"/>
              </a:solidFill>
              <a:latin typeface="Tahoma"/>
            </a:endParaRPr>
          </a:p>
        </p:txBody>
      </p:sp>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6)</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2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the priest raise the side of the “</a:t>
            </a:r>
            <a:r>
              <a:rPr b="0" lang="en-US" sz="2800" spc="-1" strike="noStrike">
                <a:solidFill>
                  <a:srgbClr val="ffffff"/>
                </a:solidFill>
                <a:latin typeface="Coptic"/>
              </a:rPr>
              <a:t>Procverin</a:t>
            </a:r>
            <a:r>
              <a:rPr b="0" lang="en-US" sz="2600" spc="-1" strike="noStrike">
                <a:solidFill>
                  <a:srgbClr val="ffffff"/>
                </a:solidFill>
                <a:latin typeface="Arial"/>
              </a:rPr>
              <a:t>” at the end of the Litany of the Assembly, he gives incense to the Mysteries pointing to the spices and perfumes that the women came with to the tomb to put on the Lord’s body on Sunday early morning. </a:t>
            </a:r>
            <a:endParaRPr b="0" lang="en-US" sz="2600" spc="-1" strike="noStrike">
              <a:solidFill>
                <a:srgbClr val="ffffff"/>
              </a:solidFill>
              <a:latin typeface="Tahoma"/>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1)</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25"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acon, standing on the right side of the sanctuary, says “Listen with the wisdom of God. Lord have mercy,. Truly we believe..)</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gregation then, in one accord, recite the Creed loudly.</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while, the priest washes his hands three times and sprinkle the water before the congregation as if saying “I am innocent”</a:t>
            </a:r>
            <a:endParaRPr b="0" lang="en-US" sz="2400" spc="-1" strike="noStrike">
              <a:solidFill>
                <a:srgbClr val="ffffff"/>
              </a:solidFill>
              <a:latin typeface="Tahoma"/>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095560" y="0"/>
            <a:ext cx="5143320" cy="6858000"/>
          </a:xfrm>
          <a:prstGeom prst="rect">
            <a:avLst/>
          </a:prstGeom>
          <a:ln w="0">
            <a:noFill/>
          </a:ln>
        </p:spPr>
      </p:pic>
    </p:spTree>
  </p:cSld>
  <p:transition spd="slow">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2)</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2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priest dries his hands, stand before the altar, facing east and start praying the Reconciliation Pray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eciting the second part of the Prayer, he holds the sides of the veil on the “</a:t>
            </a:r>
            <a:r>
              <a:rPr b="0" lang="en-US" sz="2400" spc="-1" strike="noStrike">
                <a:solidFill>
                  <a:srgbClr val="ffffff"/>
                </a:solidFill>
                <a:latin typeface="Coptic"/>
              </a:rPr>
              <a:t>Procverin</a:t>
            </a:r>
            <a:r>
              <a:rPr b="0" lang="en-US" sz="2400" spc="-1" strike="noStrike">
                <a:solidFill>
                  <a:srgbClr val="ffffff"/>
                </a:solidFill>
                <a:latin typeface="Arial"/>
              </a:rPr>
              <a:t>” and raise it before his face while a deacon is holding a cross on the opposite side of the altar. </a:t>
            </a:r>
            <a:endParaRPr b="0" lang="en-US" sz="2400" spc="-1" strike="noStrike">
              <a:solidFill>
                <a:srgbClr val="ffffff"/>
              </a:solidFill>
              <a:latin typeface="Tahoma"/>
            </a:endParaRPr>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3)</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e Prayer, the priest puts the veil on the left side of the altar, and with the help of the deacon standing opposite him, he left up the “</a:t>
            </a:r>
            <a:r>
              <a:rPr b="0" lang="en-US" sz="3200" spc="-1" strike="noStrike">
                <a:solidFill>
                  <a:srgbClr val="ffffff"/>
                </a:solidFill>
                <a:latin typeface="Coptic"/>
              </a:rPr>
              <a:t>Procverin</a:t>
            </a:r>
            <a:r>
              <a:rPr b="0" lang="en-US" sz="2400" spc="-1" strike="noStrike">
                <a:solidFill>
                  <a:srgbClr val="ffffff"/>
                </a:solidFill>
                <a:latin typeface="Arial"/>
              </a:rPr>
              <a:t>” while shaking it.</a:t>
            </a:r>
            <a:endParaRPr b="0" lang="en-US" sz="2400" spc="-1" strike="noStrike">
              <a:solidFill>
                <a:srgbClr val="ffffff"/>
              </a:solidFill>
              <a:latin typeface="Tahoma"/>
            </a:endParaRPr>
          </a:p>
        </p:txBody>
      </p:sp>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28600" y="152280"/>
            <a:ext cx="8839080" cy="6629400"/>
          </a:xfrm>
          <a:prstGeom prst="rect">
            <a:avLst/>
          </a:prstGeom>
          <a:ln w="0">
            <a:noFill/>
          </a:ln>
        </p:spPr>
      </p:pic>
    </p:spTree>
  </p:cSld>
  <p:transition spd="slow">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133720" y="152280"/>
            <a:ext cx="4971960" cy="6629400"/>
          </a:xfrm>
          <a:prstGeom prst="rect">
            <a:avLst/>
          </a:prstGeom>
          <a:ln w="0">
            <a:noFill/>
          </a:ln>
        </p:spPr>
      </p:pic>
    </p:spTree>
  </p:cSld>
  <p:transition spd="slow">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4)</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gregation recite the Creed before the Reconciliation’s Prayer as a declaration of their believe as a necessity along with the love that we declare while reconciling with God and with one anoth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sprinkles the water, after washing his hand, before the congregation as a warning for them lest any one would approach the Mysteries in an unworthy manner.</a:t>
            </a:r>
            <a:endParaRPr b="0" lang="en-US" sz="2400" spc="-1" strike="noStrike">
              <a:solidFill>
                <a:srgbClr val="ffffff"/>
              </a:solidFill>
              <a:latin typeface="Tahoma"/>
            </a:endParaRPr>
          </a:p>
        </p:txBody>
      </p:sp>
    </p:spTree>
  </p:cSld>
  <p:transition spd="slow">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5)</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prays the Reconciliation’s Prayer while his hands are not covered as a sign of the nakedness that was caused to us because of our sin before we reconcile with God through the blood of His Son.</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eil that the priest holds during the second part of the prayer is a symbol of the middle wall, that is the old enmity between us and God that was taken down by the redemptive action of the Lord on the Cross.</a:t>
            </a:r>
            <a:endParaRPr b="0" lang="en-US" sz="2400" spc="-1" strike="noStrike">
              <a:solidFill>
                <a:srgbClr val="ffffff"/>
              </a:solidFill>
              <a:latin typeface="Tahoma"/>
            </a:endParaRPr>
          </a:p>
        </p:txBody>
      </p:sp>
    </p:spTree>
  </p:cSld>
  <p:transition spd="slow">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6)</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e Prayer, this veil is put down and the cross (in the hand of the deacon) appears while the deacon says “greet one anoth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ing up the “</a:t>
            </a:r>
            <a:r>
              <a:rPr b="0" lang="en-US" sz="3200" spc="-1" strike="noStrike">
                <a:solidFill>
                  <a:srgbClr val="ffffff"/>
                </a:solidFill>
                <a:latin typeface="Coptic"/>
              </a:rPr>
              <a:t>Procverin</a:t>
            </a:r>
            <a:r>
              <a:rPr b="0" lang="en-US" sz="2400" spc="-1" strike="noStrike">
                <a:solidFill>
                  <a:srgbClr val="ffffff"/>
                </a:solidFill>
                <a:latin typeface="Arial"/>
              </a:rPr>
              <a:t>” points to the rolling of the stone from the door of the tomb and the earthquake that happened meanwhile (that is why the priest and the deacon shake the “</a:t>
            </a:r>
            <a:r>
              <a:rPr b="0" lang="en-US" sz="3200" spc="-1" strike="noStrike">
                <a:solidFill>
                  <a:srgbClr val="ffffff"/>
                </a:solidFill>
                <a:latin typeface="Coptic"/>
              </a:rPr>
              <a:t>Procverin</a:t>
            </a:r>
            <a:r>
              <a:rPr b="0" lang="en-US" sz="2400" spc="-1" strike="noStrike">
                <a:solidFill>
                  <a:srgbClr val="ffffff"/>
                </a:solidFill>
                <a:latin typeface="Arial"/>
              </a:rPr>
              <a:t>” before removing it. </a:t>
            </a:r>
            <a:endParaRPr b="0" lang="en-US" sz="2400" spc="-1" strike="noStrike">
              <a:solidFill>
                <a:srgbClr val="ffffff"/>
              </a:solidFill>
              <a:latin typeface="Tahoma"/>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The Pauline’s procession of incense and the reading of the Pauline epistle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2"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praying the absolution of the servants the priest enters the Sanctuary and put incense in the censor to start the incense procession for the Pauline epistle in the same way as in the procession of incense during the vespers or matins‘ raising of incense. </a:t>
            </a:r>
            <a:endParaRPr b="0" lang="en-US" sz="2800" spc="-1" strike="noStrike">
              <a:solidFill>
                <a:srgbClr val="ffffff"/>
              </a:solidFill>
              <a:latin typeface="Tahoma"/>
            </a:endParaRPr>
          </a:p>
        </p:txBody>
      </p:sp>
    </p:spTree>
  </p:cSld>
  <p:transition spd="slow">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7)</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4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onciliation’s Prayer was set at the beginning to remind the people that they have to reconcile with God and with one another before approaching the Mysteries.</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liturgy of the Covenant Thursday, and Bright Saturday, the Reconciliation’s Prayer is not prayed as the true reconciliation was completed by the resurrection of the Lord on Sunday.</a:t>
            </a:r>
            <a:endParaRPr b="0" lang="en-US" sz="2400" spc="-1" strike="noStrike">
              <a:solidFill>
                <a:srgbClr val="ffffff"/>
              </a:solidFill>
              <a:latin typeface="Tahoma"/>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The Pauline’s procession of incense and the reading of the Pauline epistle </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Pauline’s procession of incense, the priest go through the whole church as St. Paul went preaching the gospel to all nations.</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starts the procession in the church from the left side (north) to the right (south) as through the service of St. Paul we were transferred from darkness (with those rejected on the left side) to light (with those accepted on the right side).</a:t>
            </a:r>
            <a:endParaRPr b="0" lang="en-US" sz="2400" spc="-1" strike="noStrike">
              <a:solidFill>
                <a:srgbClr val="ffffff"/>
              </a:solidFill>
              <a:latin typeface="Tahoma"/>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90600" y="0"/>
            <a:ext cx="5143680" cy="685800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 The reading of the Catholic epistle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procession of incense for the </a:t>
            </a:r>
            <a:r>
              <a:rPr b="0" lang="en-US" sz="2800" spc="-1" strike="noStrike">
                <a:solidFill>
                  <a:srgbClr val="ffffff"/>
                </a:solidFill>
                <a:latin typeface="Coptic"/>
              </a:rPr>
              <a:t>Kayolikon</a:t>
            </a:r>
            <a:r>
              <a:rPr b="0" lang="en-US" sz="2800" spc="-1" strike="noStrike">
                <a:solidFill>
                  <a:srgbClr val="ffffff"/>
                </a:solidFill>
                <a:latin typeface="Arial"/>
              </a:rPr>
              <a:t> and the priest does not come out from the sanctuary as the commandment of the Lord to His disciples was not to leave Jerusalem and wait for the promise of the Father; that is the Holy Spirit).</a:t>
            </a:r>
            <a:endParaRPr b="0" lang="en-US" sz="2800" spc="-1" strike="noStrike">
              <a:solidFill>
                <a:srgbClr val="ffffff"/>
              </a:solidFill>
              <a:latin typeface="Tahoma"/>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57200" y="380880"/>
            <a:ext cx="8229600" cy="617220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est puts one hand of incense in the censor to start the Acts’ procession of incense.</a:t>
            </a:r>
            <a:endParaRPr b="0" lang="en-US" sz="2800" spc="-1" strike="noStrike">
              <a:solidFill>
                <a:srgbClr val="ffffff"/>
              </a:solidFill>
              <a:latin typeface="Tahoma"/>
            </a:endParaRPr>
          </a:p>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three circuits in the sanctuary (around the altar), the priest go in the church starting from the southern side (right) to the northern side (left) only in the second chorus and not in the whole church. </a:t>
            </a:r>
            <a:endParaRPr b="0" lang="en-US" sz="2800" spc="-1" strike="noStrike">
              <a:solidFill>
                <a:srgbClr val="ffffff"/>
              </a:solidFill>
              <a:latin typeface="Tahoma"/>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2"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is the priest conclude the procession before the gate of the sanctuary without going inside as in the Pauline’s procession.</a:t>
            </a:r>
            <a:endParaRPr b="0" lang="en-US" sz="2800" spc="-1" strike="noStrike">
              <a:solidFill>
                <a:srgbClr val="ffffff"/>
              </a:solidFill>
              <a:latin typeface="Tahoma"/>
            </a:endParaRPr>
          </a:p>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cession of the Acts is not in the whole church as the service of the disciples was mainly in Jerusalem and Judea (not as St. Paul which extended to the whole world).</a:t>
            </a:r>
            <a:endParaRPr b="0" lang="en-US" sz="2800" spc="-1" strike="noStrike">
              <a:solidFill>
                <a:srgbClr val="ffffff"/>
              </a:solidFill>
              <a:latin typeface="Tahoma"/>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7:49:40Z</dcterms:created>
  <dc:creator> Fr. Younan</dc:creator>
  <dc:description/>
  <dc:language>en-US</dc:language>
  <cp:lastModifiedBy> Fr. Younan</cp:lastModifiedBy>
  <dcterms:modified xsi:type="dcterms:W3CDTF">2007-01-16T18:30:38Z</dcterms:modified>
  <cp:revision>102</cp:revision>
  <dc:subject/>
  <dc:title>The Raising of Incense</dc:title>
</cp:coreProperties>
</file>